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9DFAB-0796-43AA-A3AD-30B2E3E8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89B06-69E5-4173-9692-9DB5E7C6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CCFF3-AAE7-44D4-B44E-38CCC746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82990-91A4-46A9-B974-C47CF897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25CF-B148-41BB-838C-1CDE1864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B14B-D867-4A83-85C1-1910171C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E5DA-EDF5-43DB-8D49-C00C8E20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4405-297E-4843-962B-717BCB4B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6DEF-1889-45B6-B239-20E73D01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A9CA-E0BC-4EDC-A1C5-E0E34D5C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FB5B-58F5-4865-BA8E-17F22F08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D64C4-DDE8-4FF6-938F-45141EA2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5B44-F46A-4D97-A66A-AFB4403E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29B6-2850-4F06-A001-CA036673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9451-46E3-4031-9FC6-28926110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6F96-9443-4FBC-BB65-C5CB04A6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7C42-EED3-4035-96AE-F100DC3F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A01CA-5263-4C2F-A5C2-D315334C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7C8EC-35A5-4D0D-86EB-ED256C04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22DDB-F3AA-481D-9F21-15229C4F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6D154-E265-475E-8504-7D7852E6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474E3-D540-47CD-BB69-87781051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E2BE8-78DD-410B-BDCA-E850CAB0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D032D-7977-4DE7-8009-49102CC9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98BD-CB53-45E1-AD17-AFEDB5B414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AAB6-76DA-41D2-AFC4-8A94D701DC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Writing Features for the North Carolina 10</a:t>
            </a:r>
            <a:r>
              <a:rPr b="1" lang="en-US" sz="5400" spc="-1" strike="noStrike" baseline="30000">
                <a:solidFill>
                  <a:srgbClr val="e5e5ff"/>
                </a:solidFill>
                <a:latin typeface="Garamond"/>
              </a:rPr>
              <a:t>th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Grade Writing Test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Composition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c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gan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y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cu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writer establishes a main point that is cle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writer sticks to the main point throughout the compos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ganiz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osition has a clear and strong sense of beginning, middle, and e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ideas in the composition (within the entire composition and within the individual paragraphs progress logical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uppor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uthor provides clear concrete details and comment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pport must b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ufficient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releva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y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riting is flu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uthor demonstrates strong word cho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uthor uses a variety of strong senten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17:50:27Z</dcterms:created>
  <dc:creator>Dspence</dc:creator>
  <dc:description/>
  <dc:language>en-US</dc:language>
  <cp:lastModifiedBy>Dspence</cp:lastModifiedBy>
  <dcterms:modified xsi:type="dcterms:W3CDTF">2009-09-01T17:59:19Z</dcterms:modified>
  <cp:revision>2</cp:revision>
  <dc:subject/>
  <dc:title>Writing Features for the North Carolina 10th Grade Writing Tests</dc:title>
</cp:coreProperties>
</file>